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985920" y="0"/>
            <a:ext cx="30416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19320" y="688680"/>
            <a:ext cx="45892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7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-360" y="8736120"/>
            <a:ext cx="3041640" cy="450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985920" y="8736120"/>
            <a:ext cx="3041640" cy="450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599FC-9D56-4AFB-95FF-4DBFC403D7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CCA-4E26-469B-A90B-2D04E8D8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D73-E822-49DB-9672-873B3B9B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819-830F-46D7-9C03-4216851B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836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38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9836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38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726-18A2-474D-8C7C-531440AF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71D-F296-4EB1-9A19-AABA58E6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74FE-E66F-41A9-8663-3787B4B0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1E47-78FA-4A20-BCD7-3A167296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0E2D-647C-4BF2-902C-9411381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FA3-4438-493B-A309-2EF68D4B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FAF-A5E3-4DC0-8DB4-9ED62A0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012-DA84-4C5B-AB60-3C63CCB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8D1-5517-4A98-B41F-B9372E7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C3BD-C889-4970-9FE8-8BFC569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59A-5F62-4B2B-B246-A6A297C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77D1-3667-4CB2-AEA7-102EDEA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B22-F841-4F0D-86DA-B966B4C4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9836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38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9836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38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613-5547-4FFC-BDFF-53FEFB3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08C-F71B-4910-B1BB-FB79EF4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A3F-A73A-441A-AD86-A8314676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549-8316-42FA-911E-07E98AD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9C7-7560-4A00-8946-0C7B708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BC9-AEB4-4F36-97C1-7480031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5A4-CFA0-4DFC-BE66-B131304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D5F-95FC-4740-A590-855D954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77120" cy="9155160"/>
            <a:chOff x="-720" y="-1149480"/>
            <a:chExt cx="1077120" cy="9155160"/>
          </a:xfrm>
        </p:grpSpPr>
        <p:grpSp>
          <p:nvGrpSpPr>
            <p:cNvPr id="1" name=""/>
            <p:cNvGrpSpPr/>
            <p:nvPr/>
          </p:nvGrpSpPr>
          <p:grpSpPr>
            <a:xfrm>
              <a:off x="166680" y="-1149480"/>
              <a:ext cx="760320" cy="9155160"/>
              <a:chOff x="166680" y="-1149480"/>
              <a:chExt cx="760320" cy="915516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6680" y="2347920"/>
                <a:ext cx="752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22200" y="7402320"/>
                <a:ext cx="46188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6680" y="6719760"/>
                <a:ext cx="752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016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896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EE05-DDB1-4649-8AAF-FA412E89F6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39680" cy="1012320"/>
              <a:chOff x="-3600" y="2479680"/>
              <a:chExt cx="913968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06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240" y="278208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6448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AB3A-49A3-4EE4-890F-DAABF9EFF2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news.org/wiki" TargetMode="External"/><Relationship Id="rId2" Type="http://schemas.openxmlformats.org/officeDocument/2006/relationships/hyperlink" Target="http://en.wikipedia.org/wiki/Wikibooks" TargetMode="External"/><Relationship Id="rId3" Type="http://schemas.openxmlformats.org/officeDocument/2006/relationships/hyperlink" Target="http://en.wikipedia.org/wiki/Wikibooks" TargetMode="External"/><Relationship Id="rId4" Type="http://schemas.openxmlformats.org/officeDocument/2006/relationships/hyperlink" Target="http://en.wikipedia.org/wiki/Wikibooks" TargetMode="External"/><Relationship Id="rId5" Type="http://schemas.openxmlformats.org/officeDocument/2006/relationships/hyperlink" Target="http://en.wikipedia.org/wiki/Wikibooks" TargetMode="External"/><Relationship Id="rId6" Type="http://schemas.openxmlformats.org/officeDocument/2006/relationships/hyperlink" Target="http://en.wikipedia.org/wiki/Wikibooks" TargetMode="External"/><Relationship Id="rId7" Type="http://schemas.openxmlformats.org/officeDocument/2006/relationships/hyperlink" Target="http://en.wikipedia.org/wiki/Wikibooks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swiki.org/wiki/" TargetMode="External"/><Relationship Id="rId2" Type="http://schemas.openxmlformats.org/officeDocument/2006/relationships/hyperlink" Target="http://www.libsuccess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eacherlibrarianwiki.pbwiki.com/" TargetMode="External"/><Relationship Id="rId2" Type="http://schemas.openxmlformats.org/officeDocument/2006/relationships/hyperlink" Target="http://teacherlibrarianwiki.pbwiki.com/" TargetMode="External"/><Relationship Id="rId3" Type="http://schemas.openxmlformats.org/officeDocument/2006/relationships/hyperlink" Target="http://teacherlibrarianwiki.pbwiki.com/" TargetMode="External"/><Relationship Id="rId4" Type="http://schemas.openxmlformats.org/officeDocument/2006/relationships/hyperlink" Target="http://teacherlibrarianwiki.pbwiki.com/" TargetMode="External"/><Relationship Id="rId5" Type="http://schemas.openxmlformats.org/officeDocument/2006/relationships/hyperlink" Target="http://teacherlibrarianwiki.pbwiki.com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colibrary.wikispaces.com/" TargetMode="External"/><Relationship Id="rId2" Type="http://schemas.openxmlformats.org/officeDocument/2006/relationships/hyperlink" Target="http://walthamhigh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utmeg.wikispaces.com/" TargetMode="External"/><Relationship Id="rId2" Type="http://schemas.openxmlformats.org/officeDocument/2006/relationships/hyperlink" Target="http://bibliotherapy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aming.techsource.ala.org/index.php/Main_Page" TargetMode="External"/><Relationship Id="rId2" Type="http://schemas.openxmlformats.org/officeDocument/2006/relationships/hyperlink" Target="http://www.wowwiki.com/Main_Page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ikimatrix.org/" TargetMode="External"/><Relationship Id="rId2" Type="http://schemas.openxmlformats.org/officeDocument/2006/relationships/hyperlink" Target="http://c2.com/cgi/wiki/WikiDesignPrincipl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summerreadingt.pbwiki.com/" TargetMode="External"/><Relationship Id="rId2" Type="http://schemas.openxmlformats.org/officeDocument/2006/relationships/hyperlink" Target="http://masummerreadingt.pbwiki.com/" TargetMode="External"/><Relationship Id="rId3" Type="http://schemas.openxmlformats.org/officeDocument/2006/relationships/hyperlink" Target="http://masummerreadingt.pbwiki.com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2.com/cgi/wiki?WelcomeVisitors" TargetMode="External"/><Relationship Id="rId2" Type="http://schemas.openxmlformats.org/officeDocument/2006/relationships/hyperlink" Target="http://uncyclopedia.org/wiki/Main_Page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bstandards.org/learn/faq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What’s a Wiki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online encyclopedia with over 2 million articles in English on a variety of t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50,000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million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ve times more popular than Google News, Yahoo News or BBC (Hitwis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ly as accurate as Encyclopedia Britan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268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N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ikipedia spin-off that allows anyone to become a journa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news.org/wiki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76197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textbooks and book-based texts, (similar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liff’s No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, subdivided into books for youth and academic titles an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org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kibook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6000" y="2971800"/>
            <a:ext cx="28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19332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Library Wiki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504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LIS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ibrary and Information Science wiki that anyone can edit, with over 200 articles on topics ranging from advocacy to virtu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wiki.org/wiki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95680"/>
            <a:ext cx="80773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 of best practices for libraries; articles on collection development, reference, technology, and program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ibsucces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3733920"/>
            <a:ext cx="40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Library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YALSA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522080"/>
            <a:ext cx="77724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ocacy, Committee Work, TRW/TTW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ttp://wikis.ala.org/yalsa/index.php/Main_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648320"/>
            <a:ext cx="77724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use with blogs and ph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acherlibrarian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b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3124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Joyce Valenza’s Teacher Librarian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EDCO Wiki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38564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2.0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dcolibrary.wikispaces.com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9480" y="4114800"/>
            <a:ext cx="799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ltham High School Wiki about wikis by Kendall Boni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althamhigh.wikispaces.com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8280" y="3200400"/>
            <a:ext cx="3303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S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CT Nutmeg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176480"/>
            <a:ext cx="77724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selected (like the MA Children's Book Award from Salem State). Great model for online book discussion fo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utmeg.wikispaces.com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9480" y="4800600"/>
            <a:ext cx="799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s about bibliotherapy. Only a few booklists! Contribu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bibliotherapy.wikispaces.com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68280" y="4114800"/>
            <a:ext cx="5361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ibliotherapy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LA TechSource GLLS2007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1764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to promote the event, and then presentations (audio, video, ppt, handouts) were archived here. Excellent resource for Gaming in Libr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aming.techsource.ala.org/index.php/Main_P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9480" y="4800600"/>
            <a:ext cx="799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s about bibliotherapy. Only a few booklists! Contribu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wwiki.com/Main_P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8280" y="4114800"/>
            <a:ext cx="5361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oW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eb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Matri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for comparison of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matrix.org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Design Princi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 list of concepts by creator 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2.com/cgi/wiki/WikiDesignPrincipl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Wiki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waiian for “quick” or “inform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ebpage with content created by and edited by multiple users, with immediate results visibl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oftware used to create such a web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ttp://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Prin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nningham, Ward and Bo Leuf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Wiki Way: Collaborating and Sharing the Interne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ddison-Wesley, 2001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bersbach, Anja et al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ki: Web Collabor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pringer, 200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 Gloss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Farm – website that hosts wikis, so you don’t have to download, install or host anything on your own server, or worry about the programming end of creating a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Gnome – anonymous poster who bats cleanup, tirelessly making minor 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Squatting – using a wiki as free personal web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 Glossary,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64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Tags – elements that add formatting, such as bold, italics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pedian – avid contributor to Wikipedia, a free online encyclopedia, created and maintained by its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ndbox – wiki page for testing and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page – abandoned page, often with no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lled Garden – a series of Wiki pages that link only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MA Summer Reading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0" indent="-5256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work, Booklists, Resources for the MA S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summerreading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pbwik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asic Wiki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= bull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 = head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*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' =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al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| =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Page = new page (two or more words strung together with no spaces and capital first letters creates a new page and a link to tha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[url|link] to create a web hyper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ldest known wiki is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ikiWikiWe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created by Ward Cunningham in 1995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2.com/cgi/wiki?WelcomeVisi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kipedia saw a 154% traffic increase last year (Hitwis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kipedia was recently cited as the #1 reference source on the web (HitWis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spawned a parody site,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cycloped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filled with misinformation and utter lie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uncyclopedia.org/wik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How Are Wikis U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35684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ions of articles o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ed book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ions of shared materials (Ellison dies, equipment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Qs on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student projects (i.e., poems, fanfic, art, book reviews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ing policies or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olarl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67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HTML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im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and links are instant &amp; au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ne knows everything, but everyone knows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hands make ligh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s are easy to view and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Web Standard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ebstandards.org/learn/faq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information may not get fix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amiliar style (no HTM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ly text, few bells &amp; wh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ity of authors questi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ctional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tation can be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Do Wikis Work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one owns it, so everyone is responsible and feels a sens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groups of volunteers are very de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ream rises to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kis generate a culture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rse is court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en Do Wikis Fa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m, though discouraged and deleted, still rears it’s ugl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greemen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 and threads get off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ctional subjects are taken as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feel a sense of personal ownership over your writing, wikis are not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not maintained may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Wiki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What’s a Wiki</dc:title>
</cp:coreProperties>
</file>